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8E4-3FFB-44FF-B2FC-EABACEEF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862-B29C-4B3A-99C0-9928CF10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C05-3327-47A3-9278-D85F689D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930-916E-4F27-BDA7-8AC28CBA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D09-BF87-427C-B8B1-B11E205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621-FA4C-45A2-B154-CDAFE5E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E40-D504-420F-B721-5B486DC0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2BA-D6BC-46E3-9D75-7504A2FB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667-03A6-4A02-82F3-D17E9591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83F-B095-4128-B70F-F6EB631B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903-2752-48E7-B99A-C94817B0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765-4319-41A0-BB6B-1E1828D0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731D-8799-41BF-B2AC-12F75807F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ORE                                CRAIGMORE                               CRAIGMORE                                DUNOON  ARGYLL                        DUNOON  ARGYLL                           DUNOON  ARGYLL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T  MATILDA                             GOUROCK                                        GOUROCK                                           GOUROCK                                GOUROCK  100TH                         GOUROCK  PARK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UROCK  PARK                        GOUROCK  PARK                     GOUROCK  PARK  50TH                     GOUROCK  PARK  75TH             GREENOCK  VICTORIA                    GREENOCK  VICTOR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OSVENOR                                 GROSVENOR                                  GROSVENOR                                       GROSVENOR                          GROSVENOR  150TH                                    HILLEND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13240" y="333360"/>
            <a:ext cx="11160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97600" y="333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193240" y="33336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04640"/>
            <a:ext cx="969840" cy="92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1800" y="2060640"/>
            <a:ext cx="106056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073240" y="1844640"/>
            <a:ext cx="98748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73360"/>
            <a:ext cx="98748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68880" y="1773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08880" y="1557360"/>
            <a:ext cx="11332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21600" y="2205000"/>
            <a:ext cx="100188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5002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5168880" y="3500280"/>
            <a:ext cx="106056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537240" y="328464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121600" y="3357720"/>
            <a:ext cx="120672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102384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013360"/>
            <a:ext cx="1096920" cy="135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08464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26596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084640"/>
            <a:ext cx="1060560" cy="1279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00160" y="350028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214488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608880" y="5013360"/>
            <a:ext cx="117792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04880" y="40464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3513240" y="3284640"/>
            <a:ext cx="123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1:24:07Z</dcterms:created>
  <dc:creator>JOHN YOUNG</dc:creator>
  <dc:description/>
  <dc:language>en-US</dc:language>
  <cp:lastModifiedBy>JY</cp:lastModifiedBy>
  <cp:lastPrinted>2000-05-09T17:32:06Z</cp:lastPrinted>
  <dcterms:modified xsi:type="dcterms:W3CDTF">2007-10-19T13:49:31Z</dcterms:modified>
  <cp:revision>35</cp:revision>
  <dc:subject/>
  <dc:title>No Slide Title</dc:title>
</cp:coreProperties>
</file>